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4856106"/>
        <c:axId val="76553873"/>
      </c:barChart>
      <c:catAx>
        <c:axId val="4485610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6553873"/>
        <c:crosses val="autoZero"/>
        <c:auto val="1"/>
        <c:lblAlgn val="ctr"/>
        <c:lblOffset val="100"/>
        <c:noMultiLvlLbl val="0"/>
      </c:catAx>
      <c:valAx>
        <c:axId val="7655387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485610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BDA97-11D5-4ACE-894E-ECE5A54F5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3544-A2CA-4243-BA33-E3A07498F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DA5CE-37AB-48D7-B378-69B941943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290C9-8282-4DC7-A160-F839E635B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F9DA8-3E85-4B1E-9C6C-624254619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A8DCF-95AA-402E-BF1A-04B1D7F84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F3A71-DC24-4704-A9E5-DCF2A2C07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CB482-2FE6-4B9C-A6EB-48EC50006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3832A-4B11-4DF2-AD70-2D9E09CF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3E365-0882-4952-B622-C1B332998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A71AD-8E2C-4C57-8F28-A9BFADDF2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EF618-0519-46B8-8FCE-8CA16E761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2946C-10B9-4097-AE8F-02097D9DF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F7984-1489-474C-976C-A8728A15D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0BAD2-0311-4F03-9162-459E0B8BB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43E22-3A2C-4471-90C3-58CDAF9C1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4B027-57E9-42AE-A672-534E45B3A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AB54-E628-4694-8776-0C36795A1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0962-EDD3-4139-A7EA-F3A765057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DECB-52E3-42A0-95EE-8EEF0402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614CA-D549-48BD-B41E-A96A8ED8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40E4-983F-4E15-9E86-878F5462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996D-CF45-4ADA-9B38-3AB1154C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BEEB5-8CD4-47CA-BA61-FAE412108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2E56B-F942-4EB4-8202-90D850AFA45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00C2B-6D01-41DF-81D1-A0F5BE2336A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